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953-A168-447A-A874-417F400E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8FE5-BE91-4378-8A54-4260126E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3F5-C7F0-4A7B-8130-26110492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674-D28E-4219-8BBE-F0884796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E0D-53BD-451A-9E76-C0457CA4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5E9-F7CE-4542-912C-FFA21ED4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974-651E-4C23-8FF7-B20A85B1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35F-07A5-4A67-8BD0-31D581E2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382E-292D-47CD-9B6E-BB972BFE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B25-6E60-4BE2-A219-8E248FBB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243-D6DD-4BF2-B5AC-B839C742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0A1-9686-435E-83CC-41DE4CE0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812B-C634-4C08-8B3D-C0AA77DA1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erheavy.wav" TargetMode="External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erheavy.wav" TargetMode="External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erheavy.wav" TargetMode="Externa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7.xml"/><Relationship Id="rId27" Type="http://schemas.openxmlformats.org/officeDocument/2006/relationships/slide" Target="slide59.xml"/><Relationship Id="rId28" Type="http://schemas.openxmlformats.org/officeDocument/2006/relationships/slide" Target="slide61.xml"/><Relationship Id="rId29" Type="http://schemas.openxmlformats.org/officeDocument/2006/relationships/slide" Target="slide63.xml"/><Relationship Id="rId30" Type="http://schemas.openxmlformats.org/officeDocument/2006/relationships/slide" Target="slide65.xml"/><Relationship Id="rId31" Type="http://schemas.openxmlformats.org/officeDocument/2006/relationships/slide" Target="slide67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629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44" name="Jeopardy_Think_Music.mp3" descr=""/>
          <p:cNvPicPr/>
          <p:nvPr/>
        </p:nvPicPr>
        <p:blipFill>
          <a:blip r:embed="rId5"/>
          <a:stretch/>
        </p:blipFill>
        <p:spPr>
          <a:xfrm>
            <a:off x="0" y="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37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1373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3842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8513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523880" y="2057400"/>
            <a:ext cx="5943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gag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ustom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1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4114800" y="57150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990720" y="2057400"/>
            <a:ext cx="73152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vey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ople's opin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2133720" y="312408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4114800" y="57150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838080" y="1523880"/>
            <a:ext cx="75438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conducted by an indepen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any and then offered for sa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everyone in an industry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523880" y="23623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dic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3886200" y="5791320"/>
            <a:ext cx="1447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914400" y="1676520"/>
            <a:ext cx="73152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ff researchers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ork with extern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agenci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523880" y="2057400"/>
            <a:ext cx="59436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ient-S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7"/>
          <p:cNvSpPr txBox="1"/>
          <p:nvPr/>
        </p:nvSpPr>
        <p:spPr>
          <a:xfrm>
            <a:off x="3886200" y="5791320"/>
            <a:ext cx="1447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838080" y="1219320"/>
            <a:ext cx="75438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vide 3 job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unctions of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 researc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523880" y="990720"/>
            <a:ext cx="59436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duct survey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ther info about custom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ck s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lyze advertising dat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vide recommendations about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mo, distrib, design &amp; pr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388620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1219320" y="1828800"/>
            <a:ext cx="67816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rst of seven step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Market Research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1295280" y="1523880"/>
            <a:ext cx="701064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8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143000" y="1676520"/>
            <a:ext cx="67816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cover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ine Proble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886200" y="5791320"/>
            <a:ext cx="1447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762120" y="1828800"/>
            <a:ext cx="76960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mall # representati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large group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905120" y="259092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mp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39625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219320" y="1523880"/>
            <a:ext cx="670536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nge of pri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ged for a catego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merchandis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5257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i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39625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6"/>
          <p:cNvSpPr txBox="1"/>
          <p:nvPr/>
        </p:nvSpPr>
        <p:spPr>
          <a:xfrm>
            <a:off x="1219320" y="1828800"/>
            <a:ext cx="67053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st step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 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838080" y="1828800"/>
            <a:ext cx="74678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lement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valuate Resul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8"/>
          <p:cNvSpPr txBox="1"/>
          <p:nvPr/>
        </p:nvSpPr>
        <p:spPr>
          <a:xfrm>
            <a:off x="3962520" y="5791320"/>
            <a:ext cx="1447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838080" y="1828800"/>
            <a:ext cx="7543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use of powerfu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ers to "dig-up" dat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eded to make decis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1828800" y="2438280"/>
            <a:ext cx="5486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t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3962520" y="594360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914400" y="1828800"/>
            <a:ext cx="75438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ormation gathe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ecifically focused 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ingle target marke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990720" y="1371600"/>
            <a:ext cx="70866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c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1828800" y="2209680"/>
            <a:ext cx="57150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AutoShape 6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7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WordArt 8"/>
          <p:cNvSpPr txBox="1"/>
          <p:nvPr/>
        </p:nvSpPr>
        <p:spPr>
          <a:xfrm>
            <a:off x="39625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838080" y="1828800"/>
            <a:ext cx="77724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orts of other comple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are used to hel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ine the probl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1371600" y="1828800"/>
            <a:ext cx="6477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WordArt 7"/>
          <p:cNvSpPr txBox="1"/>
          <p:nvPr/>
        </p:nvSpPr>
        <p:spPr>
          <a:xfrm>
            <a:off x="380988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914400" y="23623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used wh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business is aw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probl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1447920" y="2209680"/>
            <a:ext cx="6172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pt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388620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609480" y="2133720"/>
            <a:ext cx="79250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used to determ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e and effect relationships wh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roblem is already clearly defin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990720" y="1828800"/>
            <a:ext cx="74674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WordArt 7"/>
          <p:cNvSpPr txBox="1"/>
          <p:nvPr/>
        </p:nvSpPr>
        <p:spPr>
          <a:xfrm>
            <a:off x="403848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1143000" y="1523880"/>
            <a:ext cx="69343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conducted wh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business is unaw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exact probl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1447920" y="2362320"/>
            <a:ext cx="62481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lorato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388620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2"/>
          <p:cNvSpPr txBox="1"/>
          <p:nvPr/>
        </p:nvSpPr>
        <p:spPr>
          <a:xfrm>
            <a:off x="762120" y="1905120"/>
            <a:ext cx="77724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way a produc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fferentiated in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ds of consum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om their competitor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523880" y="1828800"/>
            <a:ext cx="6172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752480" y="2819520"/>
            <a:ext cx="5639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ct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3962520" y="594360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609480" y="2286000"/>
            <a:ext cx="80773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rocess by whi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ctics are implement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1905120" y="2286000"/>
            <a:ext cx="53337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ateg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388620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685800" y="1676520"/>
            <a:ext cx="77724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jor events where rel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dustries meet to exhib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ir products, exchange idea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learn about the lastest trend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2133720" y="1981080"/>
            <a:ext cx="4800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WordArt 7"/>
          <p:cNvSpPr txBox="1"/>
          <p:nvPr/>
        </p:nvSpPr>
        <p:spPr>
          <a:xfrm>
            <a:off x="37339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609480" y="2362320"/>
            <a:ext cx="8077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ormation gathe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out your competitor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905120" y="2133720"/>
            <a:ext cx="53337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llige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WordArt 7"/>
          <p:cNvSpPr txBox="1"/>
          <p:nvPr/>
        </p:nvSpPr>
        <p:spPr>
          <a:xfrm>
            <a:off x="411480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609480" y="1676520"/>
            <a:ext cx="78487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four sour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re we can fi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t information ab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r competitors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295280" y="1371600"/>
            <a:ext cx="63248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n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bserv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de Show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ustom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WordArt 7"/>
          <p:cNvSpPr txBox="1"/>
          <p:nvPr/>
        </p:nvSpPr>
        <p:spPr>
          <a:xfrm>
            <a:off x="380988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609480" y="1828800"/>
            <a:ext cx="80010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recisely written docu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describes the tactic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ategies that will be us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market the produc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066680" y="2057400"/>
            <a:ext cx="723924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n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1828800" y="1219320"/>
            <a:ext cx="54100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39625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685800" y="1752480"/>
            <a:ext cx="79246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laining the information s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it has meaning and draw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clusions that relate to the defin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 research probl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1752480" y="2895480"/>
            <a:ext cx="58676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pret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WordArt 7"/>
          <p:cNvSpPr txBox="1"/>
          <p:nvPr/>
        </p:nvSpPr>
        <p:spPr>
          <a:xfrm>
            <a:off x="39625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914400" y="2514600"/>
            <a:ext cx="74674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sic marketing 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ducted to solve the probl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1828800" y="2438280"/>
            <a:ext cx="5410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pli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WordArt 7"/>
          <p:cNvSpPr txBox="1"/>
          <p:nvPr/>
        </p:nvSpPr>
        <p:spPr>
          <a:xfrm>
            <a:off x="388620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2"/>
          <p:cNvSpPr txBox="1"/>
          <p:nvPr/>
        </p:nvSpPr>
        <p:spPr>
          <a:xfrm>
            <a:off x="838080" y="1981080"/>
            <a:ext cx="762012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ints at which a busin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kes contact with consum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luding websites, email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one calls or advertising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1828800" y="2971800"/>
            <a:ext cx="5410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uchpoi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WordArt 7"/>
          <p:cNvSpPr txBox="1"/>
          <p:nvPr/>
        </p:nvSpPr>
        <p:spPr>
          <a:xfrm>
            <a:off x="388620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1143000" y="2286000"/>
            <a:ext cx="7010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oad group of consumers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not targeted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WordArt 7"/>
          <p:cNvSpPr txBox="1"/>
          <p:nvPr/>
        </p:nvSpPr>
        <p:spPr>
          <a:xfrm>
            <a:off x="403848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85800" y="2057400"/>
            <a:ext cx="79246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entifies the na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busines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reason it exist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914400" y="1219320"/>
            <a:ext cx="73915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orts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tertain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ateg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2"/>
          <p:cNvSpPr txBox="1"/>
          <p:nvPr/>
        </p:nvSpPr>
        <p:spPr>
          <a:xfrm>
            <a:off x="1905120" y="1600200"/>
            <a:ext cx="52578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WordArt 7"/>
          <p:cNvSpPr txBox="1"/>
          <p:nvPr/>
        </p:nvSpPr>
        <p:spPr>
          <a:xfrm>
            <a:off x="380988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762120" y="1676520"/>
            <a:ext cx="76960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sales potential for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w product is tried in a reg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other small market prior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ts final release nationall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1905120" y="1600200"/>
            <a:ext cx="5257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WordArt 7"/>
          <p:cNvSpPr txBox="1"/>
          <p:nvPr/>
        </p:nvSpPr>
        <p:spPr>
          <a:xfrm>
            <a:off x="388620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1066680" y="1752480"/>
            <a:ext cx="70866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 the products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any has avail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 customers 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y one time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2"/>
          <p:cNvSpPr txBox="1"/>
          <p:nvPr/>
        </p:nvSpPr>
        <p:spPr>
          <a:xfrm>
            <a:off x="1905120" y="1981080"/>
            <a:ext cx="5257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du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rtfoli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6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6">
            <a:hlinkClick r:id="rId2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380988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2"/>
          <p:cNvSpPr txBox="1"/>
          <p:nvPr/>
        </p:nvSpPr>
        <p:spPr>
          <a:xfrm>
            <a:off x="990720" y="2133720"/>
            <a:ext cx="7010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three maj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nents to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 Plan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1371600" y="1523880"/>
            <a:ext cx="66294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ly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ateg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lement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1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6">
            <a:hlinkClick r:id="rId2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WordArt 7"/>
          <p:cNvSpPr txBox="1"/>
          <p:nvPr/>
        </p:nvSpPr>
        <p:spPr>
          <a:xfrm>
            <a:off x="388620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2"/>
          <p:cNvSpPr txBox="1"/>
          <p:nvPr/>
        </p:nvSpPr>
        <p:spPr>
          <a:xfrm>
            <a:off x="685800" y="1905120"/>
            <a:ext cx="78487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vide 3 of the 5 top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vered under Implement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 Marketing Plan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2"/>
          <p:cNvSpPr txBox="1"/>
          <p:nvPr/>
        </p:nvSpPr>
        <p:spPr>
          <a:xfrm>
            <a:off x="1143000" y="1523880"/>
            <a:ext cx="67816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meli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signment of Responsibilit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nal Communic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l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view &amp; Evalu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6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>
            <a:hlinkClick r:id="rId2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WordArt 7"/>
          <p:cNvSpPr txBox="1"/>
          <p:nvPr/>
        </p:nvSpPr>
        <p:spPr>
          <a:xfrm>
            <a:off x="380988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2"/>
          <p:cNvSpPr txBox="1"/>
          <p:nvPr/>
        </p:nvSpPr>
        <p:spPr>
          <a:xfrm>
            <a:off x="838080" y="1295280"/>
            <a:ext cx="7467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 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0" name="WordArt 3"/>
          <p:cNvSpPr txBox="1"/>
          <p:nvPr/>
        </p:nvSpPr>
        <p:spPr>
          <a:xfrm>
            <a:off x="762120" y="3505320"/>
            <a:ext cx="7467480" cy="25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hat is the differenc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between Market Research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&amp; Marketing Research?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241" name="Jeopardy_Think_Music.mp3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1373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1523880" y="2057400"/>
            <a:ext cx="6019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2"/>
          <p:cNvSpPr txBox="1"/>
          <p:nvPr/>
        </p:nvSpPr>
        <p:spPr>
          <a:xfrm>
            <a:off x="914400" y="1143000"/>
            <a:ext cx="72388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rket - conducted specificall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or target market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rketing - conducted to solve broad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cope of marketing problem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11">
            <a:hlinkClick r:id="rId2"/>
          </p:cNvPr>
          <p:cNvSpPr/>
          <p:nvPr/>
        </p:nvSpPr>
        <p:spPr>
          <a:xfrm>
            <a:off x="609480" y="556272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4320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2"/>
          <p:cNvSpPr txBox="1"/>
          <p:nvPr/>
        </p:nvSpPr>
        <p:spPr>
          <a:xfrm>
            <a:off x="2286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eed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fo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rket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esearch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roces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3276720" y="380880"/>
            <a:ext cx="1143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s of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4724280" y="3049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am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lann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ports &amp;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ntertainm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trategi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rketing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la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74">
            <a:hlinkClick r:id="rId32" action="ppaction://hlinksldjump"/>
          </p:cNvPr>
          <p:cNvSpPr/>
          <p:nvPr/>
        </p:nvSpPr>
        <p:spPr>
          <a:xfrm>
            <a:off x="8763120" y="647712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990720" y="1066680"/>
            <a:ext cx="71625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eat customers who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letely loyal to the company'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ducts are known a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sundlin</cp:lastModifiedBy>
  <dcterms:modified xsi:type="dcterms:W3CDTF">2011-02-04T20:05:16Z</dcterms:modified>
  <cp:revision>71</cp:revision>
  <dc:subject/>
  <dc:title>No Slide Title</dc:title>
</cp:coreProperties>
</file>